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C97-5E0A-4378-95A5-6558DCF7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75B-8847-46C3-86D7-C35D1D8C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A11-0903-43F1-80E4-4AC783D0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72E-6553-4CC1-B971-9E6231FE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E128-DF48-43B5-ADD6-F3FC9A06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C7DA-8773-44EE-999E-962FD770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5940-B484-4036-8925-72B7FA2B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BC14-AB00-44B7-A653-5530EBE2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E1D0-1273-4271-8D33-01D15001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D278-EA2E-4168-B3E1-C7A5AF49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9D02-7149-4D18-83F4-3DC144F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D71-ED4C-46CB-A95D-8E5AE9EC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7276-2016-4136-AE8D-780BA4C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B7A1-A535-4EAB-ACCF-7CA0417C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F257-81B0-4A0F-A367-69485CD9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32BA-F0CE-4CC7-B351-D8C66E9A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8013-9687-4DCF-8965-314B74A9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083A-0106-40CF-BD48-B320B607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1A57-3604-4385-9815-1EA5C199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5DB0-4A78-433D-A2A6-14EC7A75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5304-EBBD-4003-B64B-A4D45735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3938-E9F9-4B16-859A-DC45D010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691-B936-45FE-98CF-26CBAC87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D6049-6FA9-4294-9164-6C554E7E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FACD-979B-4D9F-832C-19B57A3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2302-038A-4D64-BDF9-1A89CB5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D4E6-B932-4A41-8DA9-CFE19697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C1A6-9011-4280-8C5C-0650465C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27AD-3E1E-4623-A982-9B18E387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1B75-FBE0-4F1B-A992-63592E77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1CD3-7D7D-4389-827C-67FDC300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4CFE-F212-4D81-956D-3A8F82C3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0A49B-CA1C-4F9E-AC11-F239E6BC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466-F7A5-4594-8FAD-C91A5406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513A4-4F0D-40A9-B6E1-FFA44AA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2DDB-28C7-455B-96B0-B0E62594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206C-DA3F-4A11-85E0-50FEDD3B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B2EE-A670-4A4D-9145-66D0DCB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9C27-FD3E-4314-A5B1-632CF538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BE7E-0254-44D3-B674-FD23280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496B-9700-4BFA-B31D-4BA1138D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2EE4-D75F-4E6B-9471-DF80624A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0EA33-8686-4115-B84C-C8A5C49C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75D-6943-4862-8F83-3D027DC6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AD1-B4B3-4DE5-95E8-766881D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EB9-B417-4AAA-A387-B601247A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45D-3912-405C-B2B8-DF9422A0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D04-810E-41F4-9B0F-7A2F0005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03FE-284A-470C-A672-02E4B4304EB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F1AC-C35F-4291-9D66-327635ACF7A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BC4F-69CE-45AE-A862-2390AAECA92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7ABD-F37B-45A0-A991-BBAFB419E9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 Smart Are The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 Ide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it true intelligence or just instinct (unthinking behavior)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. Evolution in wolves- behavior around their you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evaluate animal intelligenc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 Ide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dea-Animals can think in human ways with human emotions and ide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dea-Clever Hans phenomenon-What is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lligence used to be measured by math and language skills, but involves more such as memory, evaluation, and crea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imals are intelligent, but we can't apply human standards to animals-Wh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6:07:25Z</dcterms:created>
  <dc:creator> </dc:creator>
  <dc:description/>
  <dc:language>en-US</dc:language>
  <cp:lastModifiedBy> </cp:lastModifiedBy>
  <dcterms:modified xsi:type="dcterms:W3CDTF">2011-04-03T16:18:06Z</dcterms:modified>
  <cp:revision>1</cp:revision>
  <dc:subject/>
  <dc:title>Animal Intelligence</dc:title>
</cp:coreProperties>
</file>